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E40AA714-52D0-49B8-B061-A8673D3AED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3268440" y="512640"/>
            <a:ext cx="3368520" cy="2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52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 loeng 13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167C9989-0CB6-47C9-95FB-B199076276ED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5AB49-F55D-4512-BC1E-AFD286BA022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5580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9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in a file, consisting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only then convert to an ar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ng N-th element is very fast, even in N is b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lis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ng a new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ing an existing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arr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752480" y="2057400"/>
            <a:ext cx="6477120" cy="2589120"/>
            <a:chOff x="1752480" y="2057400"/>
            <a:chExt cx="6477120" cy="2589120"/>
          </a:xfrm>
        </p:grpSpPr>
        <p:sp>
          <p:nvSpPr>
            <p:cNvPr id="192" name=""/>
            <p:cNvSpPr/>
            <p:nvPr/>
          </p:nvSpPr>
          <p:spPr>
            <a:xfrm>
              <a:off x="1752480" y="2057400"/>
              <a:ext cx="6477120" cy="258912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2057400"/>
              <a:ext cx="64771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d the place in list, keep previous nod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truct a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he old previous node point to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new node point to nex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0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itive data types like integers, floa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s or classes which can be used for list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definitions for keep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1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2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3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24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4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of 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 etc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ava, every class has class Object as a top level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make a stack and queue of elements of type Obj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5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ree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blackbo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: recursive node counting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Tree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lef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righ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countNodes( TreeNode root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oot == null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left)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right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coun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ount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3577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 as a universal datatyp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ary trees can be used to construct any other datatype, including lists, arrays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ften it is faster and more efficient to use other datatypes directly, not through simulating them via binary tre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p and scheme: two datatypes used: binary trees (with list syntax) and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lackboard: construct the following list as a  binary tre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    (1   2)    ()     ((e)  f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6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fficiency of standard operations on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rted arra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slow (every element is looked thro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slow (all elements to the right must be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rted arra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use binary search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slow (all elements to the right must be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slow (every element is looked thro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lements to the right are not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nary (balanced) sort tre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binary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lemetns to the right are not 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7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67640" y="1103400"/>
            <a:ext cx="928440" cy="642600"/>
            <a:chOff x="6767640" y="1103400"/>
            <a:chExt cx="928440" cy="642600"/>
          </a:xfrm>
        </p:grpSpPr>
        <p:sp>
          <p:nvSpPr>
            <p:cNvPr id="114" name=""/>
            <p:cNvSpPr/>
            <p:nvPr/>
          </p:nvSpPr>
          <p:spPr>
            <a:xfrm>
              <a:off x="6767640" y="1103400"/>
              <a:ext cx="92844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67640" y="11034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715000" y="2514600"/>
            <a:ext cx="928800" cy="642600"/>
            <a:chOff x="5715000" y="2514600"/>
            <a:chExt cx="928800" cy="642600"/>
          </a:xfrm>
        </p:grpSpPr>
        <p:sp>
          <p:nvSpPr>
            <p:cNvPr id="117" name=""/>
            <p:cNvSpPr/>
            <p:nvPr/>
          </p:nvSpPr>
          <p:spPr>
            <a:xfrm>
              <a:off x="5715000" y="2514600"/>
              <a:ext cx="92880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251460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772400" y="4876920"/>
            <a:ext cx="928800" cy="642600"/>
            <a:chOff x="7772400" y="4876920"/>
            <a:chExt cx="928800" cy="642600"/>
          </a:xfrm>
        </p:grpSpPr>
        <p:sp>
          <p:nvSpPr>
            <p:cNvPr id="120" name=""/>
            <p:cNvSpPr/>
            <p:nvPr/>
          </p:nvSpPr>
          <p:spPr>
            <a:xfrm>
              <a:off x="7772400" y="4876920"/>
              <a:ext cx="92880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72400" y="487692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76920" y="3657600"/>
            <a:ext cx="928440" cy="642600"/>
            <a:chOff x="4876920" y="3657600"/>
            <a:chExt cx="928440" cy="642600"/>
          </a:xfrm>
        </p:grpSpPr>
        <p:sp>
          <p:nvSpPr>
            <p:cNvPr id="123" name=""/>
            <p:cNvSpPr/>
            <p:nvPr/>
          </p:nvSpPr>
          <p:spPr>
            <a:xfrm>
              <a:off x="4876920" y="3657600"/>
              <a:ext cx="92844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6576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5410080" y="3121200"/>
            <a:ext cx="533520" cy="107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00800" y="1749240"/>
            <a:ext cx="685800" cy="1301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540560" y="1749240"/>
            <a:ext cx="311040" cy="36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13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3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990720" y="2587320"/>
            <a:ext cx="914400" cy="107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3733920"/>
            <a:ext cx="1479600" cy="581400"/>
            <a:chOff x="228600" y="3733920"/>
            <a:chExt cx="1479600" cy="581400"/>
          </a:xfrm>
        </p:grpSpPr>
        <p:sp>
          <p:nvSpPr>
            <p:cNvPr id="147" name=""/>
            <p:cNvSpPr/>
            <p:nvPr/>
          </p:nvSpPr>
          <p:spPr>
            <a:xfrm>
              <a:off x="228600" y="373392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96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480" y="3429000"/>
            <a:ext cx="6248520" cy="3011040"/>
            <a:chOff x="1752480" y="3429000"/>
            <a:chExt cx="6248520" cy="3011040"/>
          </a:xfrm>
        </p:grpSpPr>
        <p:sp>
          <p:nvSpPr>
            <p:cNvPr id="155" name=""/>
            <p:cNvSpPr/>
            <p:nvPr/>
          </p:nvSpPr>
          <p:spPr>
            <a:xfrm>
              <a:off x="1752480" y="3429000"/>
              <a:ext cx="6248520" cy="29322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2480" y="3429000"/>
              <a:ext cx="624852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" y="1981080"/>
            <a:ext cx="1479600" cy="581400"/>
            <a:chOff x="228600" y="1981080"/>
            <a:chExt cx="1479600" cy="581400"/>
          </a:xfrm>
        </p:grpSpPr>
        <p:sp>
          <p:nvSpPr>
            <p:cNvPr id="158" name=""/>
            <p:cNvSpPr/>
            <p:nvPr/>
          </p:nvSpPr>
          <p:spPr>
            <a:xfrm>
              <a:off x="228600" y="198108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96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1219320" y="1673280"/>
            <a:ext cx="533160" cy="31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1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